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65C4-453C-4506-9C7B-EE0A7A00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A22-1775-4235-9031-2DD345F2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D15-7B20-4F84-BB11-83841B48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0324-EA2C-489E-A85A-03774DE9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8906-4470-478E-86E6-01D7A1D8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DCBF-E0C6-4186-9362-B96E51F1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106D-7070-47BA-864C-2D7D8884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2DE0-41D3-4FD5-9194-11391A04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E483-8C6C-48C3-BA60-E8ABE4AB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BC13-659D-4940-92D5-B139371C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4B5-D7A4-47E0-A6A5-18874D4C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C74D-83AA-42A6-AE49-FD709680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5F9E-92EF-4946-86E8-1048F25EC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Science 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Welco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room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re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quality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nd use numbers cor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nventions (spelling, punctuation, sentences, paragrap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book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MCj04338680000[1]"/>
          <p:cNvPicPr/>
          <p:nvPr/>
        </p:nvPicPr>
        <p:blipFill>
          <a:blip r:embed="rId1"/>
          <a:stretch/>
        </p:blipFill>
        <p:spPr>
          <a:xfrm>
            <a:off x="3886200" y="990720"/>
            <a:ext cx="5105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quired Supp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green duo-tangs (Notebook, Journal, Lab Note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harpened penc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 cray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 sharp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 Un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, Tissue, Organs,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st Wee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 – Half Clas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 – Quiz, Journal, &amp; Mini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ay, Tuesday, Friday – “Regular”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Not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and use class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name the parts of “Scientific Inqui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lan a an activity using “Scientific Inqui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9:38:08Z</dcterms:created>
  <dc:creator>nbdoe</dc:creator>
  <dc:description/>
  <dc:language>en-US</dc:language>
  <cp:lastModifiedBy>Terry, Sean J. (ASD-E)</cp:lastModifiedBy>
  <dcterms:modified xsi:type="dcterms:W3CDTF">2016-01-25T23:11:56Z</dcterms:modified>
  <cp:revision>30</cp:revision>
  <dc:subject/>
  <dc:title>Slide 1</dc:title>
</cp:coreProperties>
</file>